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494F-78F5-4C85-920D-83EB42B5F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B64C-6978-4E28-9D54-0E18429D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22F5-54EA-4F96-AD66-F0ABAB4E4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363D-9F71-46CA-B9C5-D22E6FDD6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B582-1B45-47DE-9D45-03EBC22B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326F-327E-4395-AA78-F1A82D07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0811-262E-433F-A6F4-AB2560A7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0100-F42C-4CEE-858A-873D685B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9BC8-30EB-4CDC-8D54-048B6471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D66E-C50B-4097-9EF6-6632E7F6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622C-FA83-4F49-BF0B-630F1DD7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2EE3-03BA-4F30-BEC6-1A5D6ADF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4701-7200-49E2-B07E-E90CF8F62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Simon and 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sailed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untains were very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were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3429000" y="2895480"/>
            <a:ext cx="472428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hich were green and pur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ere probably up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evil du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e attacking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4114800" y="2209680"/>
            <a:ext cx="4800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give 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gave y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rong co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3809880" y="1828800"/>
            <a:ext cx="51818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12:33:44Z</dcterms:created>
  <dc:creator>Lakeview</dc:creator>
  <dc:description/>
  <dc:language>en-US</dc:language>
  <cp:lastModifiedBy>cyndi.vander_ven</cp:lastModifiedBy>
  <dcterms:modified xsi:type="dcterms:W3CDTF">2009-04-27T02:05:14Z</dcterms:modified>
  <cp:revision>3</cp:revision>
  <dc:subject/>
  <dc:title>Poem</dc:title>
</cp:coreProperties>
</file>